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BB74-DFA7-4EBA-9EAB-6A99444E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8C9-5979-43FB-A5EC-785435F17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5FB-0647-432B-9B6A-E1C3BF953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0B0-EEF0-48E1-A0AC-EA16E015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EADD-759C-4BBD-81EC-C445F6CC7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A4E4-D6E6-4078-979B-057B1FF0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5D4-478C-4062-98D2-5AE0B4DAA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821C-2135-48CC-8626-7A3D9D24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B26-F613-465C-934E-2CD875605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A80-8550-47CE-8529-55294F99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904-0D32-44C8-972A-5FD242147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8E4-80F1-4758-89C7-CEA9554F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A47E-818E-4B45-BE36-EE847FD35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F91-6DD3-434A-B099-1AB46AF3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5F2-B24A-47F5-9865-C2DA321B6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CA6E-BF62-41F2-A4F7-20EED0F4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CEB-20B0-4806-9D1A-89D7FB162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93E-3F57-4070-A064-DC510C2A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7E3-1F22-4704-91B7-51C7A9552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F07-26B6-462E-A0BE-37E04DCA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7BAF-B28B-461E-9E47-C31F515C6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3643-B9C3-42AC-A80C-53F200C7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06D-A09E-45C9-B086-6EECB8665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D7C-A478-4D0D-BE60-EE6DC4C9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3400-407A-4323-BE29-055DB5999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DD1-BE95-477B-B06F-DB1B4397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219D-49D1-466A-AE74-A375F60CB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D21-2604-4A49-943C-172872FFF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6D2-0DCC-4F11-B1E1-CCFAC7CC7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722-BA1E-4934-A4CD-2F632FD8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F52-C4B1-43EB-8A1A-8813E9324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27C-465F-453A-882D-600D45C4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E689-B959-411C-8381-E8A4F33A5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022-646E-4CB0-AB46-0F4C304A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BCE-2FB8-4F94-A343-E3B1D44BF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135-AEE9-4DF6-B205-42D55A7B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93F2-86A8-470F-8F11-CE8745025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68B5-8EDE-4102-A3C3-559BC56E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60E9-A8E8-434D-B9F2-6FC95375C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EB8-1E40-4673-845A-9866043F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137-4304-4CBB-8460-B1185918A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93DA-4D29-4566-9877-41E4D773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08A-1947-4481-B6B4-F042F0602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9CD-579B-4F1E-B40F-1411602A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166-2E07-4BB8-A0DD-74E5957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093-44BF-417E-8D7F-A51BA471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62B-C4D0-41AC-B146-00A2086A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136-E167-47F3-88A1-CF307ECD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435-98E9-461E-B53B-EB25080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3D6-5E50-4AAD-A613-F8137B2A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9B1-1E85-4972-83E2-F1213777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C6B-F8B9-436F-8B6F-564BF10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FA6-66D6-4AD6-BF76-2429661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EE7-D551-4B27-A4A3-48858EE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D64-7222-46D4-96C1-3713D7C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BF3-A2AC-456A-A3D4-D8E6A25A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9B58-E7A3-4363-A667-34680EBCCEDC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BC4-C1F0-405A-99FD-C123D23F00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ch1_cytoskeleton.jpg"/>
          <p:cNvPicPr/>
          <p:nvPr/>
        </p:nvPicPr>
        <p:blipFill>
          <a:blip r:embed="rId1"/>
          <a:stretch/>
        </p:blipFill>
        <p:spPr>
          <a:xfrm>
            <a:off x="5873760" y="4743360"/>
            <a:ext cx="3162240" cy="199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2050920" y="32432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AnimalCellColor"/>
          <p:cNvPicPr/>
          <p:nvPr/>
        </p:nvPicPr>
        <p:blipFill>
          <a:blip r:embed="rId2"/>
          <a:stretch/>
        </p:blipFill>
        <p:spPr>
          <a:xfrm>
            <a:off x="250920" y="189000"/>
            <a:ext cx="2584440" cy="256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interact08"/>
          <p:cNvPicPr/>
          <p:nvPr/>
        </p:nvPicPr>
        <p:blipFill>
          <a:blip r:embed="rId3"/>
          <a:srcRect l="0" t="22004" r="0" b="17523"/>
          <a:stretch/>
        </p:blipFill>
        <p:spPr>
          <a:xfrm>
            <a:off x="6227640" y="620640"/>
            <a:ext cx="261936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6"/>
          <p:cNvGraphicFramePr/>
          <p:nvPr/>
        </p:nvGraphicFramePr>
        <p:xfrm>
          <a:off x="3419640" y="260280"/>
          <a:ext cx="223668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260280"/>
                    <a:ext cx="223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7"/>
          <p:cNvGraphicFramePr/>
          <p:nvPr/>
        </p:nvGraphicFramePr>
        <p:xfrm>
          <a:off x="136440" y="4653000"/>
          <a:ext cx="3067200" cy="21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6440" y="4653000"/>
                    <a:ext cx="306720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19" descr="chromosome"/>
          <p:cNvPicPr/>
          <p:nvPr/>
        </p:nvPicPr>
        <p:blipFill>
          <a:blip r:embed="rId8"/>
          <a:stretch/>
        </p:blipFill>
        <p:spPr>
          <a:xfrm>
            <a:off x="3348000" y="4724280"/>
            <a:ext cx="21207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320F-8150-4115-BB89-6989237FD2C6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A64-89EC-4DA2-B89D-9FE68C3C6D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sma Membrane -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rcRect l="3689" t="13716" r="3846" b="9171"/>
          <a:stretch/>
        </p:blipFill>
        <p:spPr>
          <a:xfrm>
            <a:off x="609480" y="1144440"/>
            <a:ext cx="792504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81D4-6423-4ECB-AC51-719AF5CD5B40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AC0-B358-480D-ADE6-0A5CAABA89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24000" y="1341360"/>
            <a:ext cx="849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s are the bas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its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many different kinds of cells, which are specialized to carry out particula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pite of this, cells have many common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Neuron"/>
          <p:cNvPicPr/>
          <p:nvPr/>
        </p:nvPicPr>
        <p:blipFill>
          <a:blip r:embed="rId1"/>
          <a:stretch/>
        </p:blipFill>
        <p:spPr>
          <a:xfrm>
            <a:off x="108000" y="4334040"/>
            <a:ext cx="3213000" cy="2408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White%20Blood%20Cell"/>
          <p:cNvPicPr/>
          <p:nvPr/>
        </p:nvPicPr>
        <p:blipFill>
          <a:blip r:embed="rId2"/>
          <a:srcRect l="0" t="0" r="0" b="4105"/>
          <a:stretch/>
        </p:blipFill>
        <p:spPr>
          <a:xfrm>
            <a:off x="3459240" y="4292640"/>
            <a:ext cx="2552760" cy="244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Bacteria"/>
          <p:cNvPicPr/>
          <p:nvPr/>
        </p:nvPicPr>
        <p:blipFill>
          <a:blip r:embed="rId3"/>
          <a:srcRect l="0" t="0" r="20228" b="12354"/>
          <a:stretch/>
        </p:blipFill>
        <p:spPr>
          <a:xfrm>
            <a:off x="6157800" y="4311720"/>
            <a:ext cx="295128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268280"/>
          <a:ext cx="8229600" cy="516096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perme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what enters/le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ed of phospholipid bilayer,   proteins, 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id mosaic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gh rigid outer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sol (aqueous solution) and cell organelles outside the nucleus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97"/>
          <p:cNvSpPr/>
          <p:nvPr/>
        </p:nvSpPr>
        <p:spPr>
          <a:xfrm>
            <a:off x="4143240" y="5286240"/>
            <a:ext cx="4357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2786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2786040" y="45720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928800" y="60008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2857680" y="59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6357960" y="142920"/>
            <a:ext cx="2359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765000"/>
          <a:ext cx="8229600" cy="5602320"/>
        </p:xfrm>
        <a:graphic>
          <a:graphicData uri="http://schemas.openxmlformats.org/drawingml/2006/table">
            <a:tbl>
              <a:tblPr/>
              <a:tblGrid>
                <a:gridCol w="2027160"/>
                <a:gridCol w="1582920"/>
                <a:gridCol w="4619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endoplasmic reticulum (S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throughout cytoplasm to transport 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f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s with ribosomes attached (area for protein synthesi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gi appar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s of membranes which modify protein for secretion (expo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s them into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s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 enzymes (proteins) that can break down molecules (food, bacteria, wastes, the cell itse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9"/>
          <p:cNvSpPr/>
          <p:nvPr/>
        </p:nvSpPr>
        <p:spPr>
          <a:xfrm>
            <a:off x="4140360" y="2205000"/>
            <a:ext cx="44640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4143240" y="4643280"/>
            <a:ext cx="446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4143240" y="5715000"/>
            <a:ext cx="446436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714240" y="34290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h endoplasmic reticulum (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714760" y="3571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2857680" y="47862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15080" y="0"/>
            <a:ext cx="2217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268280"/>
          <a:ext cx="8229600" cy="493236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rite at the botto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house of the ce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s energy (cellular respi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ir of cylinders that aid in 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-floating membrane-bound sac for st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:chloropla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tosynth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(plants), small (animals) membrane-bound sacs filled with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gor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40"/>
          <p:cNvSpPr/>
          <p:nvPr/>
        </p:nvSpPr>
        <p:spPr>
          <a:xfrm>
            <a:off x="3995640" y="263700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14240" y="35002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928800" y="53578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cu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268280"/>
          <a:ext cx="8229600" cy="462780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4762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entre of the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 all of the cell’s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us double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s nucleus from cytoplas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ture of chemicals that stores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 in nucleic 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o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body in the centre of the nucleus thought to make rib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8"/>
          <p:cNvSpPr/>
          <p:nvPr/>
        </p:nvSpPr>
        <p:spPr>
          <a:xfrm>
            <a:off x="3995640" y="340344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3995640" y="4195800"/>
            <a:ext cx="4464000" cy="10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3995640" y="5229360"/>
            <a:ext cx="4464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2786040" y="4357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78588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2714760" y="2786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2714760" y="53578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00880" y="0"/>
            <a:ext cx="243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197000"/>
          <a:ext cx="8075520" cy="2822400"/>
        </p:xfrm>
        <a:graphic>
          <a:graphicData uri="http://schemas.openxmlformats.org/drawingml/2006/table">
            <a:tbl>
              <a:tblPr/>
              <a:tblGrid>
                <a:gridCol w="1847880"/>
                <a:gridCol w="1312920"/>
                <a:gridCol w="49147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instruction for what proteins to 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17"/>
          <p:cNvSpPr/>
          <p:nvPr/>
        </p:nvSpPr>
        <p:spPr>
          <a:xfrm>
            <a:off x="611280" y="4156200"/>
            <a:ext cx="4032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A occurs in two fo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omatin – long &amp; t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hen cell is not divi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chromosomes – short &amp; th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uring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8"/>
          <p:cNvSpPr/>
          <p:nvPr/>
        </p:nvSpPr>
        <p:spPr>
          <a:xfrm rot="5154000">
            <a:off x="-793800" y="3317760"/>
            <a:ext cx="2017800" cy="792360"/>
          </a:xfrm>
          <a:custGeom>
            <a:avLst/>
            <a:gdLst>
              <a:gd name="textAreaLeft" fmla="*/ 353160 w 2017800"/>
              <a:gd name="textAreaRight" fmla="*/ 1463040 w 201780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9" descr="chromatinstructurefigure1"/>
          <p:cNvPicPr/>
          <p:nvPr/>
        </p:nvPicPr>
        <p:blipFill>
          <a:blip r:embed="rId1"/>
          <a:stretch/>
        </p:blipFill>
        <p:spPr>
          <a:xfrm>
            <a:off x="4643280" y="4141800"/>
            <a:ext cx="4500720" cy="2455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22"/>
          <p:cNvSpPr/>
          <p:nvPr/>
        </p:nvSpPr>
        <p:spPr>
          <a:xfrm rot="1643400">
            <a:off x="3900600" y="486684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6"/>
          <p:cNvSpPr/>
          <p:nvPr/>
        </p:nvSpPr>
        <p:spPr>
          <a:xfrm>
            <a:off x="3419640" y="6237360"/>
            <a:ext cx="5976720" cy="620640"/>
          </a:xfrm>
          <a:custGeom>
            <a:avLst/>
            <a:gdLst>
              <a:gd name="textAreaLeft" fmla="*/ 1045800 w 5976720"/>
              <a:gd name="textAreaRight" fmla="*/ 4333320 w 5976720"/>
              <a:gd name="textAreaTop" fmla="*/ 83160 h 620640"/>
              <a:gd name="textAreaBottom" fmla="*/ 53748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b0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500200" y="27860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928800" y="26431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357120" y="3357720"/>
            <a:ext cx="214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 on your 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ER BIOLOGICAL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1143000"/>
            <a:ext cx="4572000" cy="53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rcRect l="5661" t="7194" r="3721" b="6491"/>
          <a:stretch/>
        </p:blipFill>
        <p:spPr>
          <a:xfrm>
            <a:off x="609480" y="2666880"/>
            <a:ext cx="2641680" cy="2971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4343400" y="1219320"/>
            <a:ext cx="83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4479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Type of Cell (stain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1371600" y="4343400"/>
            <a:ext cx="5716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2819520" y="32004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2133720" y="3886200"/>
            <a:ext cx="171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1866960" y="457200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96252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962520" y="3657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96252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209680" y="5715000"/>
            <a:ext cx="2895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.e. 400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410080" y="1828800"/>
            <a:ext cx="3429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blank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a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ol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h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s must line up ver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 lines are parall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abel lines do NOT cr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 LAB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rmal lab reports must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4952880" y="2133720"/>
            <a:ext cx="3810240" cy="454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tle of th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BI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ner’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. K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62120" y="3886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ed on th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5486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the bottom right-han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3276720" y="3809880"/>
            <a:ext cx="2438280" cy="533520"/>
          </a:xfrm>
          <a:prstGeom prst="rightArrow">
            <a:avLst>
              <a:gd name="adj1" fmla="val 50000"/>
              <a:gd name="adj2" fmla="val 114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4419720" y="5410080"/>
            <a:ext cx="2438280" cy="533520"/>
          </a:xfrm>
          <a:prstGeom prst="rightArrow">
            <a:avLst>
              <a:gd name="adj1" fmla="val 50000"/>
              <a:gd name="adj2" fmla="val 114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 LAB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ormal lab reports must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28600" y="1828800"/>
            <a:ext cx="89154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One sentence stating the reason for doing th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ateria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 list of what you used during th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 set of numbered steps. (Instru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Biological diagrams and/or a chart with written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Discussion Ques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Answer all discussion questions using complete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Briefly comment on the results of the l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ke sure it relates to the purpose specifical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52AF-418F-4030-820B-500B18CB16FF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0780-1427-4ADD-AB99-0672439AB0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Comic Sans MS"/>
              </a:rPr>
              <a:t>Animal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%20Cel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0" y="1500120"/>
            <a:ext cx="498636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42920" y="1357200"/>
            <a:ext cx="20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no central 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b049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49e"/>
                </a:solidFill>
                <a:latin typeface="Comic Sans MS"/>
              </a:rPr>
              <a:t>has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 flipV="1">
            <a:off x="1928880" y="4000320"/>
            <a:ext cx="643320" cy="14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" name="Group 98"/>
          <p:cNvGrpSpPr/>
          <p:nvPr/>
        </p:nvGrpSpPr>
        <p:grpSpPr>
          <a:xfrm>
            <a:off x="3070800" y="4571640"/>
            <a:ext cx="1018800" cy="1357560"/>
            <a:chOff x="3070800" y="4571640"/>
            <a:chExt cx="1018800" cy="1357560"/>
          </a:xfrm>
        </p:grpSpPr>
        <p:cxnSp>
          <p:nvCxnSpPr>
            <p:cNvPr id="67" name="Straight Arrow Connector 8"/>
            <p:cNvCxnSpPr/>
            <p:nvPr/>
          </p:nvCxnSpPr>
          <p:spPr>
            <a:xfrm flipV="1">
              <a:off x="3070800" y="5071320"/>
              <a:ext cx="857880" cy="857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0"/>
            <p:cNvCxnSpPr/>
            <p:nvPr/>
          </p:nvCxnSpPr>
          <p:spPr>
            <a:xfrm flipV="1">
              <a:off x="3071880" y="4571640"/>
              <a:ext cx="1018080" cy="13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9" name="Straight Arrow Connector 12"/>
          <p:cNvCxnSpPr/>
          <p:nvPr/>
        </p:nvCxnSpPr>
        <p:spPr>
          <a:xfrm flipH="1">
            <a:off x="4500720" y="1499760"/>
            <a:ext cx="64332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8"/>
          <p:cNvCxnSpPr/>
          <p:nvPr/>
        </p:nvCxnSpPr>
        <p:spPr>
          <a:xfrm flipH="1" flipV="1">
            <a:off x="5214600" y="4285800"/>
            <a:ext cx="15724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2"/>
          <p:cNvCxnSpPr/>
          <p:nvPr/>
        </p:nvCxnSpPr>
        <p:spPr>
          <a:xfrm>
            <a:off x="3571920" y="1499760"/>
            <a:ext cx="7200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25"/>
          <p:cNvCxnSpPr/>
          <p:nvPr/>
        </p:nvCxnSpPr>
        <p:spPr>
          <a:xfrm flipV="1">
            <a:off x="2142720" y="4214520"/>
            <a:ext cx="17154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28"/>
          <p:cNvCxnSpPr/>
          <p:nvPr/>
        </p:nvCxnSpPr>
        <p:spPr>
          <a:xfrm flipH="1" flipV="1">
            <a:off x="6786360" y="3571200"/>
            <a:ext cx="107208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31"/>
          <p:cNvCxnSpPr/>
          <p:nvPr/>
        </p:nvCxnSpPr>
        <p:spPr>
          <a:xfrm flipH="1" flipV="1">
            <a:off x="6143040" y="3642840"/>
            <a:ext cx="85788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34"/>
          <p:cNvCxnSpPr/>
          <p:nvPr/>
        </p:nvCxnSpPr>
        <p:spPr>
          <a:xfrm>
            <a:off x="2643120" y="2286000"/>
            <a:ext cx="9295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44"/>
          <p:cNvCxnSpPr/>
          <p:nvPr/>
        </p:nvCxnSpPr>
        <p:spPr>
          <a:xfrm>
            <a:off x="1928520" y="3714840"/>
            <a:ext cx="786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Straight Arrow Connector 53"/>
          <p:cNvCxnSpPr/>
          <p:nvPr/>
        </p:nvCxnSpPr>
        <p:spPr>
          <a:xfrm flipV="1">
            <a:off x="2142720" y="4214160"/>
            <a:ext cx="78660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56"/>
          <p:cNvCxnSpPr/>
          <p:nvPr/>
        </p:nvCxnSpPr>
        <p:spPr>
          <a:xfrm flipV="1">
            <a:off x="2214360" y="4714560"/>
            <a:ext cx="12862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57"/>
          <p:cNvCxnSpPr/>
          <p:nvPr/>
        </p:nvCxnSpPr>
        <p:spPr>
          <a:xfrm flipH="1">
            <a:off x="5928480" y="1643040"/>
            <a:ext cx="11437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59"/>
          <p:cNvCxnSpPr/>
          <p:nvPr/>
        </p:nvCxnSpPr>
        <p:spPr>
          <a:xfrm flipH="1">
            <a:off x="5428440" y="2000160"/>
            <a:ext cx="1715400" cy="121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61"/>
          <p:cNvCxnSpPr/>
          <p:nvPr/>
        </p:nvCxnSpPr>
        <p:spPr>
          <a:xfrm flipH="1">
            <a:off x="6071760" y="2786040"/>
            <a:ext cx="572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2" name="Group 95"/>
          <p:cNvGrpSpPr/>
          <p:nvPr/>
        </p:nvGrpSpPr>
        <p:grpSpPr>
          <a:xfrm>
            <a:off x="5428800" y="1357200"/>
            <a:ext cx="1000440" cy="1357560"/>
            <a:chOff x="5428800" y="1357200"/>
            <a:chExt cx="1000440" cy="1357560"/>
          </a:xfrm>
        </p:grpSpPr>
        <p:cxnSp>
          <p:nvCxnSpPr>
            <p:cNvPr id="83" name="Straight Arrow Connector 11"/>
            <p:cNvCxnSpPr/>
            <p:nvPr/>
          </p:nvCxnSpPr>
          <p:spPr>
            <a:xfrm flipH="1">
              <a:off x="5428800" y="1357200"/>
              <a:ext cx="1000800" cy="1144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5499720" y="2071800"/>
              <a:ext cx="28620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5" name="TextBox 74"/>
          <p:cNvSpPr/>
          <p:nvPr/>
        </p:nvSpPr>
        <p:spPr>
          <a:xfrm>
            <a:off x="642960" y="5429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5"/>
          <p:cNvSpPr/>
          <p:nvPr/>
        </p:nvSpPr>
        <p:spPr>
          <a:xfrm>
            <a:off x="2214720" y="60008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6"/>
          <p:cNvSpPr/>
          <p:nvPr/>
        </p:nvSpPr>
        <p:spPr>
          <a:xfrm>
            <a:off x="142920" y="46432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0"/>
          <p:cNvSpPr/>
          <p:nvPr/>
        </p:nvSpPr>
        <p:spPr>
          <a:xfrm>
            <a:off x="1214280" y="507204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214200" y="40006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3"/>
          <p:cNvSpPr/>
          <p:nvPr/>
        </p:nvSpPr>
        <p:spPr>
          <a:xfrm>
            <a:off x="142920" y="342900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5"/>
          <p:cNvSpPr/>
          <p:nvPr/>
        </p:nvSpPr>
        <p:spPr>
          <a:xfrm>
            <a:off x="6643800" y="500076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6"/>
          <p:cNvSpPr/>
          <p:nvPr/>
        </p:nvSpPr>
        <p:spPr>
          <a:xfrm>
            <a:off x="6715080" y="4214880"/>
            <a:ext cx="242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7"/>
          <p:cNvSpPr/>
          <p:nvPr/>
        </p:nvSpPr>
        <p:spPr>
          <a:xfrm>
            <a:off x="7786800" y="3571920"/>
            <a:ext cx="121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9"/>
          <p:cNvSpPr/>
          <p:nvPr/>
        </p:nvSpPr>
        <p:spPr>
          <a:xfrm>
            <a:off x="6572160" y="242892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0"/>
          <p:cNvSpPr/>
          <p:nvPr/>
        </p:nvSpPr>
        <p:spPr>
          <a:xfrm>
            <a:off x="7072200" y="178596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1"/>
          <p:cNvSpPr/>
          <p:nvPr/>
        </p:nvSpPr>
        <p:spPr>
          <a:xfrm>
            <a:off x="6929280" y="135720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2"/>
          <p:cNvSpPr/>
          <p:nvPr/>
        </p:nvSpPr>
        <p:spPr>
          <a:xfrm>
            <a:off x="6072120" y="1000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2"/>
          <p:cNvSpPr/>
          <p:nvPr/>
        </p:nvSpPr>
        <p:spPr>
          <a:xfrm>
            <a:off x="4429080" y="1071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4"/>
          <p:cNvSpPr/>
          <p:nvPr/>
        </p:nvSpPr>
        <p:spPr>
          <a:xfrm>
            <a:off x="2500200" y="11430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lag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2"/>
          <p:cNvSpPr/>
          <p:nvPr/>
        </p:nvSpPr>
        <p:spPr>
          <a:xfrm>
            <a:off x="2143080" y="192888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 # 2 Observ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: February 9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64FB-7719-4BD4-8A8B-28AA74D8396F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C32-42FD-40E2-96E9-7F26DBD6B1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 Structure of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859880" cy="528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ge 15 # 2, 3, 4,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 we can do these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nucleolus_diagram"/>
          <p:cNvPicPr/>
          <p:nvPr/>
        </p:nvPicPr>
        <p:blipFill>
          <a:blip r:embed="rId1"/>
          <a:stretch/>
        </p:blipFill>
        <p:spPr>
          <a:xfrm>
            <a:off x="6153120" y="3835440"/>
            <a:ext cx="2882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745F-5248-43BD-BF15-8FE3537BCEF3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4BD-6AD0-433F-AC9B-8AB455A0DA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nt Cel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214720" y="1428840"/>
            <a:ext cx="46479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42920" y="135720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41e1e"/>
                </a:solidFill>
                <a:uFillTx/>
                <a:latin typeface="Comic Sans MS"/>
              </a:rPr>
              <a:t>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a large central   vacu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421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1e"/>
                </a:solidFill>
                <a:latin typeface="Comic Sans MS"/>
              </a:rPr>
              <a:t>no centri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8"/>
          <p:cNvCxnSpPr/>
          <p:nvPr/>
        </p:nvCxnSpPr>
        <p:spPr>
          <a:xfrm>
            <a:off x="1928520" y="414288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1"/>
          <p:cNvCxnSpPr/>
          <p:nvPr/>
        </p:nvCxnSpPr>
        <p:spPr>
          <a:xfrm flipV="1">
            <a:off x="3071880" y="4714200"/>
            <a:ext cx="1000800" cy="1215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12"/>
          <p:cNvCxnSpPr/>
          <p:nvPr/>
        </p:nvCxnSpPr>
        <p:spPr>
          <a:xfrm flipH="1">
            <a:off x="4785840" y="1500120"/>
            <a:ext cx="8582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3"/>
          <p:cNvCxnSpPr/>
          <p:nvPr/>
        </p:nvCxnSpPr>
        <p:spPr>
          <a:xfrm flipH="1" flipV="1">
            <a:off x="5857200" y="4071600"/>
            <a:ext cx="114372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4"/>
          <p:cNvCxnSpPr/>
          <p:nvPr/>
        </p:nvCxnSpPr>
        <p:spPr>
          <a:xfrm>
            <a:off x="2000160" y="3785760"/>
            <a:ext cx="85824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6"/>
          <p:cNvCxnSpPr/>
          <p:nvPr/>
        </p:nvCxnSpPr>
        <p:spPr>
          <a:xfrm>
            <a:off x="1999800" y="3285720"/>
            <a:ext cx="13582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7"/>
          <p:cNvCxnSpPr>
            <a:stCxn id="113" idx="1"/>
          </p:cNvCxnSpPr>
          <p:nvPr/>
        </p:nvCxnSpPr>
        <p:spPr>
          <a:xfrm flipH="1" flipV="1">
            <a:off x="6000480" y="3428640"/>
            <a:ext cx="100080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2285640" y="4357080"/>
            <a:ext cx="50076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9"/>
          <p:cNvCxnSpPr/>
          <p:nvPr/>
        </p:nvCxnSpPr>
        <p:spPr>
          <a:xfrm flipH="1" flipV="1">
            <a:off x="5643000" y="5000040"/>
            <a:ext cx="57204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20"/>
          <p:cNvCxnSpPr/>
          <p:nvPr/>
        </p:nvCxnSpPr>
        <p:spPr>
          <a:xfrm>
            <a:off x="4070880" y="1428840"/>
            <a:ext cx="14364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Straight Arrow Connector 21"/>
          <p:cNvCxnSpPr>
            <a:stCxn id="118" idx="1"/>
          </p:cNvCxnSpPr>
          <p:nvPr/>
        </p:nvCxnSpPr>
        <p:spPr>
          <a:xfrm flipH="1">
            <a:off x="5285880" y="2215080"/>
            <a:ext cx="1286640" cy="49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9" name="Group 22"/>
          <p:cNvGrpSpPr/>
          <p:nvPr/>
        </p:nvGrpSpPr>
        <p:grpSpPr>
          <a:xfrm>
            <a:off x="5000400" y="1785600"/>
            <a:ext cx="1000440" cy="786600"/>
            <a:chOff x="5000400" y="1785600"/>
            <a:chExt cx="1000440" cy="786600"/>
          </a:xfrm>
        </p:grpSpPr>
        <p:cxnSp>
          <p:nvCxnSpPr>
            <p:cNvPr id="120" name="Straight Arrow Connector 23"/>
            <p:cNvCxnSpPr/>
            <p:nvPr/>
          </p:nvCxnSpPr>
          <p:spPr>
            <a:xfrm flipH="1">
              <a:off x="5000400" y="1785600"/>
              <a:ext cx="1000800" cy="662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1" name="Straight Arrow Connector 24"/>
            <p:cNvCxnSpPr/>
            <p:nvPr/>
          </p:nvCxnSpPr>
          <p:spPr>
            <a:xfrm flipH="1">
              <a:off x="5071320" y="2200320"/>
              <a:ext cx="286200" cy="37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22" name="TextBox 25"/>
          <p:cNvSpPr/>
          <p:nvPr/>
        </p:nvSpPr>
        <p:spPr>
          <a:xfrm>
            <a:off x="7072200" y="50007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1071720" y="571500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285840" y="442908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7000920" y="342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680" y="3929040"/>
            <a:ext cx="15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5643720" y="607212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ytoskele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6858000" y="42148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6572160" y="2000160"/>
            <a:ext cx="257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R (riboso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3"/>
          <p:cNvSpPr/>
          <p:nvPr/>
        </p:nvSpPr>
        <p:spPr>
          <a:xfrm>
            <a:off x="714240" y="3000240"/>
            <a:ext cx="121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cu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2143080" y="1071720"/>
            <a:ext cx="157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5"/>
          <p:cNvSpPr/>
          <p:nvPr/>
        </p:nvSpPr>
        <p:spPr>
          <a:xfrm>
            <a:off x="5429160" y="1143000"/>
            <a:ext cx="157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3500280" y="107172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clear p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5857920" y="15001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romos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9"/>
          <p:cNvSpPr/>
          <p:nvPr/>
        </p:nvSpPr>
        <p:spPr>
          <a:xfrm>
            <a:off x="357120" y="35719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loropl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6"/>
          <p:cNvCxnSpPr/>
          <p:nvPr/>
        </p:nvCxnSpPr>
        <p:spPr>
          <a:xfrm>
            <a:off x="3571920" y="1714320"/>
            <a:ext cx="35784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15"/>
          <p:cNvCxnSpPr/>
          <p:nvPr/>
        </p:nvCxnSpPr>
        <p:spPr>
          <a:xfrm flipH="1" flipV="1">
            <a:off x="5928840" y="4572000"/>
            <a:ext cx="12866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s of a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o you remembe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e all books and notes :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CFA-08CD-46B4-AF13-5F71FBBCA8BA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8A1C-B65C-49BA-ACBC-4B383FD55B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4372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429160" y="53578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000080" y="54291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43720" y="2143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071720" y="492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71720" y="44290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25636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000080" y="30002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000080" y="16430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000080" y="25718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000080" y="207180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643720" y="30718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E10-C585-4BF5-BD0C-2F239D62F7D6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2C9-DF01-4552-8903-5D1E8D7EB6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    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4920" y="1589040"/>
            <a:ext cx="4464000" cy="418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572000" y="1587600"/>
            <a:ext cx="4541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43912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with a partner!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small checkmark next to the correct answ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ir score out of 20 in the right hand corne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71640" y="1641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7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plasm (chromos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71640" y="25970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p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71640" y="3063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71640" y="3532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97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ory ves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71640" y="45036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971640" y="49737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71640" y="544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971640" y="590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653080" y="166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651640" y="21272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651640" y="2631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5651640" y="31003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5651640" y="3568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651640" y="40006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5651640" y="4471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5651640" y="4941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651640" y="5408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lia / flag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5651640" y="58579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C:\Program Files\Microsoft Office\MEDIA\OFFICE11\Bullets\BD21301_.gif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C:\Program Files\Microsoft Office\MEDIA\OFFICE11\Bullets\BD21301_.gif"/>
          <p:cNvPicPr/>
          <p:nvPr/>
        </p:nvPicPr>
        <p:blipFill>
          <a:blip r:embed="rId2"/>
          <a:stretch/>
        </p:blipFill>
        <p:spPr>
          <a:xfrm>
            <a:off x="187200" y="1571760"/>
            <a:ext cx="3574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12A-BBF5-4AC2-BC8D-2ADBCDC3B976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2A6A-180C-4603-9B63-3FEC7DAAA5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Plasma Membrane</a:t>
            </a:r>
            <a:br>
              <a:rPr sz="4400"/>
            </a:br>
            <a:r>
              <a:rPr b="0" lang="en-US" sz="4400" spc="-1" strike="noStrike">
                <a:solidFill>
                  <a:srgbClr val="841e1e"/>
                </a:solidFill>
                <a:latin typeface="Arial"/>
              </a:rPr>
              <a:t>Also called the cell membra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0" t="7393" r="0" b="7393"/>
          <a:stretch/>
        </p:blipFill>
        <p:spPr>
          <a:xfrm>
            <a:off x="838080" y="1506600"/>
            <a:ext cx="7467840" cy="4513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928800" y="60721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sma membrane regulates what enters and leaves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858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1e"/>
                </a:solidFill>
                <a:latin typeface="Comic Sans MS"/>
              </a:rPr>
              <a:t>Fluid Mosaic Model of Cell 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7216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F365-7914-4BC8-BC89-FF687209F8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533520" y="1465200"/>
            <a:ext cx="7696080" cy="435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14600" y="5638680"/>
            <a:ext cx="328608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tei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nels that allow water or specific small ions in/out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 Arrow 20"/>
          <p:cNvSpPr/>
          <p:nvPr/>
        </p:nvSpPr>
        <p:spPr>
          <a:xfrm rot="16049400">
            <a:off x="2124360" y="3161160"/>
            <a:ext cx="428760" cy="106200"/>
          </a:xfrm>
          <a:prstGeom prst="leftArrow">
            <a:avLst>
              <a:gd name="adj1" fmla="val 50000"/>
              <a:gd name="adj2" fmla="val 50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 Arrow 21"/>
          <p:cNvSpPr/>
          <p:nvPr/>
        </p:nvSpPr>
        <p:spPr>
          <a:xfrm rot="5071800">
            <a:off x="2422800" y="3236040"/>
            <a:ext cx="428400" cy="1062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35"/>
          <p:cNvCxnSpPr/>
          <p:nvPr/>
        </p:nvCxnSpPr>
        <p:spPr>
          <a:xfrm flipV="1">
            <a:off x="3997800" y="4571640"/>
            <a:ext cx="2520" cy="8596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Freeform 40"/>
          <p:cNvSpPr/>
          <p:nvPr/>
        </p:nvSpPr>
        <p:spPr>
          <a:xfrm>
            <a:off x="3838680" y="3214800"/>
            <a:ext cx="176040" cy="1406520"/>
          </a:xfrm>
          <a:custGeom>
            <a:avLst/>
            <a:gdLst/>
            <a:ahLst/>
            <a:rect l="l" t="t" r="r" b="b"/>
            <a:pathLst>
              <a:path w="176212" h="1406525">
                <a:moveTo>
                  <a:pt x="0" y="0"/>
                </a:moveTo>
                <a:cubicBezTo>
                  <a:pt x="0" y="0"/>
                  <a:pt x="166688" y="1406525"/>
                  <a:pt x="171450" y="1400175"/>
                </a:cubicBezTo>
                <a:cubicBezTo>
                  <a:pt x="176212" y="1393825"/>
                  <a:pt x="0" y="0"/>
                  <a:pt x="0" y="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3"/>
          <p:cNvCxnSpPr/>
          <p:nvPr/>
        </p:nvCxnSpPr>
        <p:spPr>
          <a:xfrm flipH="1" flipV="1">
            <a:off x="3714480" y="3500280"/>
            <a:ext cx="7200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Straight Arrow Connector 44"/>
          <p:cNvCxnSpPr/>
          <p:nvPr/>
        </p:nvCxnSpPr>
        <p:spPr>
          <a:xfrm>
            <a:off x="4000680" y="3571920"/>
            <a:ext cx="72000" cy="71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770C-CCF1-42B8-966A-17392CDC70DB}" type="datetime3">
              <a:rPr b="0" lang="en-US" sz="1200" spc="-1" strike="noStrike">
                <a:solidFill>
                  <a:srgbClr val="898989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55:15Z</dcterms:created>
  <dc:creator>OCDSB User</dc:creator>
  <dc:description/>
  <dc:language>en-US</dc:language>
  <cp:lastModifiedBy>mobilef</cp:lastModifiedBy>
  <dcterms:modified xsi:type="dcterms:W3CDTF">2013-03-06T17:18:19Z</dcterms:modified>
  <cp:revision>4</cp:revision>
  <dc:subject/>
  <dc:title>Slide 1</dc:title>
</cp:coreProperties>
</file>